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C9AC-0EFD-4F0C-B176-091C305A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AFC-DC16-4C7B-98A7-66257D31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14D-37A4-4B1F-8813-F514C2F9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009A-2305-4390-A194-6AC141E1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3D00-537D-4102-8B5E-D469A637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ADEE-DD93-48A8-8ABA-B3CDDD95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860B-F2BA-4CF0-879A-F1BC8493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9E63-69F4-40F3-BA1F-59AF3347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B795-3869-4D44-94E7-9EAF0490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FC21-292D-4B8F-A312-249BAB82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4AF2-D09C-4C4F-8575-19F5917B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5B2D-CCEC-45E8-99F5-8433EE71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C83E-0662-4DB0-AAF4-B360A41E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DE00-05B8-4706-BF1C-6DC3F379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5618-2B5F-475E-A768-E390D622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38A0-5ADC-44E1-BB30-3779F4DB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49BB-434E-4007-A2EF-E08A595D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DA43-C272-4592-9926-B1DC7537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48E-459E-4AAB-82FD-407F6068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5B55-111F-4398-BAA3-17DAED8E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F27-5533-4E2C-B369-B1E9CB65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166B-6426-4DB5-809C-0A1E9827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D45-A5B8-4B29-92B0-E0BB2779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78C-D6A6-4020-94FB-5318C507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E976-88EC-46C8-824C-904F6BBD851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C8A1-A6B4-4D5E-85C7-41A06981D21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HSP 3M - Unit 3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6560" y="586728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in, C.M., &amp; Colyer, J.S. (2001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Human w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Toronto: Oxford University P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06633"/>
                </a:solidFill>
                <a:latin typeface="Garamond"/>
              </a:rPr>
              <a:t>Informal Justice Systems in Other Societi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n Canada, the justice system is highly impers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n other cultures personal relationships and maintaining social harmony are much more important in the justic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181480" y="914400"/>
            <a:ext cx="2784600" cy="2971800"/>
            <a:chOff x="5181480" y="914400"/>
            <a:chExt cx="2784600" cy="29718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5181480" y="914400"/>
              <a:ext cx="278460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 txBox="1"/>
            <p:nvPr/>
          </p:nvSpPr>
          <p:spPr>
            <a:xfrm>
              <a:off x="5181480" y="914400"/>
              <a:ext cx="278460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49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105520" y="4038480"/>
            <a:ext cx="30099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006633"/>
                </a:solidFill>
                <a:latin typeface="Garamond"/>
              </a:rPr>
              <a:t>Informal Justice Systems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boriginal communities empha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healing offen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ighting the conditions that led to the off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integrating the offender back into the commu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809880" y="914400"/>
            <a:ext cx="4648320" cy="4530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13840" y="5334120"/>
            <a:ext cx="486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munity is of primary importance. With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ty, each person had his or her rol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ibilities, each of equal value to one anoth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006633"/>
                </a:solidFill>
                <a:latin typeface="Garamond"/>
              </a:rPr>
              <a:t>Kpelle culture of Africa (central Liberia and Guinea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Gibbs’ study of the legal system in 1957 and 19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Patrilineal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culture (inherit through the male lin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opulation 175 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two branches – formal and inf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Formal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court handles assault, possession of illegal charms and theft involving unrelated litig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Informal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court or </a:t>
            </a: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moo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is an informal airing of disputes before an assembled group (Includes the complainant, the accused, neighbours, other family members and a mediator selected by the complain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006633"/>
                </a:solidFill>
                <a:latin typeface="Garamond"/>
              </a:rPr>
              <a:t>Factors which make the moot successfu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roceedings, although “spirited”, were orderly and open, anyone could speak and felt like they had been he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ll felt like they had an impact on the re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the faults of both parties were pointed out therefore allowing those at fault to save face, not labell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48320" y="1905120"/>
            <a:ext cx="4038480" cy="2971800"/>
            <a:chOff x="4648320" y="1905120"/>
            <a:chExt cx="4038480" cy="297180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4648320" y="1905120"/>
              <a:ext cx="403848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 txBox="1"/>
            <p:nvPr/>
          </p:nvSpPr>
          <p:spPr>
            <a:xfrm>
              <a:off x="4648320" y="1905120"/>
              <a:ext cx="403848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728600" y="51814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Read page106 of text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06633"/>
                </a:solidFill>
                <a:latin typeface="Garamond"/>
              </a:rPr>
              <a:t>Issues in Canadian Criminal Justice</a:t>
            </a:r>
            <a:br>
              <a:rPr sz="3800"/>
            </a:br>
            <a:r>
              <a:rPr b="1" lang="en-CA" sz="3800" spc="-1" strike="noStrike">
                <a:solidFill>
                  <a:srgbClr val="006633"/>
                </a:solidFill>
                <a:latin typeface="Garamond"/>
              </a:rPr>
              <a:t>1.  </a:t>
            </a:r>
            <a:r>
              <a:rPr b="1" lang="en-CA" sz="4000" spc="-1" strike="noStrike">
                <a:solidFill>
                  <a:srgbClr val="006633"/>
                </a:solidFill>
                <a:latin typeface="Garamond"/>
              </a:rPr>
              <a:t>The Power of the Police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Approximately 1 police officer for every 475 Canadia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00"/>
                </a:solidFill>
                <a:latin typeface="Arial"/>
              </a:rPr>
              <a:t>Studies of police behaviour tell us 6 factors influence police behavi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how serious the police perceive the situation to be - more serious = more likely to arre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what the police believe the victim wa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the amount of co-operation the suspect offers- unco-operative suspects tend to get arrest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police's history with the suspect- prior negative contact more likely to arre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presence of bystanders- more likely to arre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Race - more likely to arrest people of col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lice Behaviour and Ra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hile this study was conducted in the U.S. we know that in Ont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lack people are imprisoned at 5 times the rate for white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boriginal people are jailed at 3 times the rate for white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ews Re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cbc.ca/news/background/racial_profilin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acial Profi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aci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fil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ists when the members of a particula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aci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r ethnic group become subject to greater criminal justice or institutional surveillance than others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fil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ists whe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aci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haracteristics - rather than behaviour – contributes to surveillance deci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49760" y="160020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9760" y="160020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4959000" y="914400"/>
            <a:ext cx="3972600" cy="916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of Toronto residents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been stopped by police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ccasions in the past 2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5943600"/>
            <a:ext cx="8534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 Scot Wortley, CERIS – Justice Domain Leader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ntre of Criminolog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Tor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06633"/>
                </a:solidFill>
                <a:latin typeface="Garamond"/>
              </a:rPr>
              <a:t>Issues in Canadian Criminal Justice</a:t>
            </a:r>
            <a:br>
              <a:rPr sz="3800"/>
            </a:br>
            <a:r>
              <a:rPr b="1" lang="en-CA" sz="3800" spc="-1" strike="noStrike">
                <a:solidFill>
                  <a:srgbClr val="006633"/>
                </a:solidFill>
                <a:latin typeface="Garamond"/>
              </a:rPr>
              <a:t>2. The Number of Prison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Between 1987 and 1997, the total correctional population increased by 44% (Canadian Centre for Justice Statistics 199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In 2001, there were 34 000 inmates in Canada (Linden 200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115: 100 000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much higher than in Western Europe, but lower than the U.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006633"/>
                </a:solidFill>
                <a:latin typeface="Garamond"/>
              </a:rPr>
              <a:t>Prisons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verage cost of keeping an offen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n a federal penitentiary is $50 000 to $65 000 a y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halfway house - $33 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arole - $9000 (Solicitor General Canada 200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In 1995-9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77% of the total caseload was outside of pris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only 12% of all correctional spending was for community supervision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06633"/>
                </a:solidFill>
                <a:latin typeface="Garamond"/>
              </a:rPr>
              <a:t>Issues in Canadian Criminal Justice </a:t>
            </a:r>
            <a:br>
              <a:rPr sz="3800"/>
            </a:br>
            <a:r>
              <a:rPr b="1" lang="en-CA" sz="3800" spc="-1" strike="noStrike">
                <a:solidFill>
                  <a:srgbClr val="006633"/>
                </a:solidFill>
                <a:latin typeface="Garamond"/>
              </a:rPr>
              <a:t>3. Rehabilitation or Radical Reform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ome sociologists argue that we should abandon our current criminal justice system, particularly pris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only protect the public temporari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do little to reshape offenders attitudes or behavi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trengthens criminal attitudes and skills by asso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evers social ties with the outside world which makes it </a:t>
            </a: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likely that individuals will re-off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Unit 3 Social Institu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422360"/>
            <a:ext cx="56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far in the course we have been focus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03480" y="201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2362320"/>
            <a:ext cx="28954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that influence and shape human behaviou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e, gender, mental illness, ethnicity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2362320"/>
            <a:ext cx="28954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e are socialized (agents of socializ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family, school, peers, media, workplace, relig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742840" y="19051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905120"/>
            <a:ext cx="1447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5880" y="4038480"/>
            <a:ext cx="78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 a nutshell, the forces within our self (nature), and in others (nur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5181480"/>
            <a:ext cx="4876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3 Task -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ook at how the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forces fit into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4648320"/>
            <a:ext cx="2971800" cy="533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5486400"/>
            <a:ext cx="2971800" cy="5335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34120" y="49525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5334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habilitation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rime rates are high in late teens and early twenties and fall steeply among old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ost taxpayers' money is going towards warehousing a diminishing crime th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e must intervene in the lives of young people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they break the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.g. restrict the unsupervised activities of tee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49760" y="160020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9760" y="160020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066680" y="990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Hirschi'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nalysis of criminal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8120" y="5943600"/>
            <a:ext cx="43884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 of offenders admitted to Federal Custod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ada. 1995-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habilitation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trong link between criminal behaviour and low self-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teaching children self-control at an early age will reduce cr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dvocates strong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arget funds and assistance to seriously dysfunctional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ducing teen pregnancy alone would reduce crime more effectively than all the current criminal justice programs comb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What are social Institution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cial Institutions are social structures in a society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hape values and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intain or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elp society to function efficiently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3124080"/>
            <a:ext cx="3276360" cy="2133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124080"/>
            <a:ext cx="3276720" cy="2133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r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i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952880"/>
            <a:ext cx="224460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1600" y="4952880"/>
            <a:ext cx="24638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sonal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6120" y="541008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cause they affect lar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oups 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9400" y="5486400"/>
            <a:ext cx="25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ffect individual’s l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im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33"/>
                </a:solidFill>
                <a:latin typeface="Garamond"/>
              </a:rPr>
              <a:t>Characteristics of Social Institution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903200" y="2776680"/>
            <a:ext cx="3381120" cy="3379680"/>
            <a:chOff x="4903200" y="2776680"/>
            <a:chExt cx="3381120" cy="3379680"/>
          </a:xfrm>
        </p:grpSpPr>
        <p:sp>
          <p:nvSpPr>
            <p:cNvPr id="112" name="_s14342"/>
            <p:cNvSpPr/>
            <p:nvPr/>
          </p:nvSpPr>
          <p:spPr>
            <a:xfrm flipH="1" flipV="1">
              <a:off x="5995440" y="3868560"/>
              <a:ext cx="296280" cy="29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4343"/>
            <p:cNvSpPr/>
            <p:nvPr/>
          </p:nvSpPr>
          <p:spPr>
            <a:xfrm>
              <a:off x="5273280" y="3149640"/>
              <a:ext cx="844200" cy="8431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Legal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4344"/>
            <p:cNvSpPr/>
            <p:nvPr/>
          </p:nvSpPr>
          <p:spPr>
            <a:xfrm flipH="1">
              <a:off x="5749920" y="4464000"/>
              <a:ext cx="42048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4345"/>
            <p:cNvSpPr/>
            <p:nvPr/>
          </p:nvSpPr>
          <p:spPr>
            <a:xfrm>
              <a:off x="4903200" y="4045680"/>
              <a:ext cx="843480" cy="843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overn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4346"/>
            <p:cNvSpPr/>
            <p:nvPr/>
          </p:nvSpPr>
          <p:spPr>
            <a:xfrm flipH="1">
              <a:off x="5995800" y="4763160"/>
              <a:ext cx="298800" cy="29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4347"/>
            <p:cNvSpPr/>
            <p:nvPr/>
          </p:nvSpPr>
          <p:spPr>
            <a:xfrm>
              <a:off x="5275800" y="4942440"/>
              <a:ext cx="844200" cy="843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ilitar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4348"/>
            <p:cNvSpPr/>
            <p:nvPr/>
          </p:nvSpPr>
          <p:spPr>
            <a:xfrm>
              <a:off x="6591240" y="4884120"/>
              <a:ext cx="2160" cy="42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4349"/>
            <p:cNvSpPr/>
            <p:nvPr/>
          </p:nvSpPr>
          <p:spPr>
            <a:xfrm>
              <a:off x="6172920" y="5313240"/>
              <a:ext cx="844200" cy="8431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4350"/>
            <p:cNvSpPr/>
            <p:nvPr/>
          </p:nvSpPr>
          <p:spPr>
            <a:xfrm>
              <a:off x="6890040" y="4760280"/>
              <a:ext cx="299160" cy="30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4351"/>
            <p:cNvSpPr/>
            <p:nvPr/>
          </p:nvSpPr>
          <p:spPr>
            <a:xfrm>
              <a:off x="7070040" y="4939920"/>
              <a:ext cx="844200" cy="843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ork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4352"/>
            <p:cNvSpPr/>
            <p:nvPr/>
          </p:nvSpPr>
          <p:spPr>
            <a:xfrm>
              <a:off x="7011720" y="4464000"/>
              <a:ext cx="42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4353"/>
            <p:cNvSpPr/>
            <p:nvPr/>
          </p:nvSpPr>
          <p:spPr>
            <a:xfrm>
              <a:off x="7440840" y="4043520"/>
              <a:ext cx="843480" cy="843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hurch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4354"/>
            <p:cNvSpPr/>
            <p:nvPr/>
          </p:nvSpPr>
          <p:spPr>
            <a:xfrm flipV="1">
              <a:off x="6887520" y="3866400"/>
              <a:ext cx="301680" cy="30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4355"/>
            <p:cNvSpPr/>
            <p:nvPr/>
          </p:nvSpPr>
          <p:spPr>
            <a:xfrm>
              <a:off x="7067520" y="3146760"/>
              <a:ext cx="843480" cy="843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ee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4356"/>
            <p:cNvSpPr/>
            <p:nvPr/>
          </p:nvSpPr>
          <p:spPr>
            <a:xfrm flipV="1">
              <a:off x="6591240" y="3617280"/>
              <a:ext cx="0" cy="42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4357"/>
            <p:cNvSpPr/>
            <p:nvPr/>
          </p:nvSpPr>
          <p:spPr>
            <a:xfrm>
              <a:off x="6170400" y="2776680"/>
              <a:ext cx="844200" cy="843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amil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4358"/>
            <p:cNvSpPr/>
            <p:nvPr/>
          </p:nvSpPr>
          <p:spPr>
            <a:xfrm>
              <a:off x="6170400" y="4045680"/>
              <a:ext cx="844200" cy="843840"/>
            </a:xfrm>
            <a:prstGeom prst="ellipse">
              <a:avLst/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ociet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57200" y="11430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ve usually existed for a lo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ve well established or entrenched patterns of functioning (change usually occurs slow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ve a specific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embers are joined together by shared values and beli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657600"/>
            <a:ext cx="403848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33"/>
                </a:solidFill>
                <a:latin typeface="Garamond"/>
              </a:rPr>
              <a:t>Purposes of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33"/>
                </a:solidFill>
                <a:latin typeface="Garamond"/>
              </a:rPr>
              <a:t>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ct as an agent of soc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intain order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nit 3 Question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re Canada's social institutions successful according to the above defini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iscuss using examp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006633"/>
                </a:solidFill>
                <a:latin typeface="Garamond"/>
              </a:rPr>
              <a:t>Criminal Justice System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ll societies need to have mechanisms for social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2438280"/>
            <a:ext cx="914400" cy="914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429000"/>
            <a:ext cx="4114800" cy="274320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 ensure that individu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ehave in acceptable 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429000"/>
            <a:ext cx="4114800" cy="274320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11480" y="4191120"/>
            <a:ext cx="400788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 determine what happe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en individuals break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200040" y="320040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2004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06633"/>
                </a:solidFill>
                <a:latin typeface="Garamond"/>
              </a:rPr>
              <a:t>Canada's Formal Justice System</a:t>
            </a:r>
            <a:r>
              <a:rPr b="0" lang="en-CA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r>
              <a:rPr b="0" lang="en-CA" sz="3800" spc="-1" strike="noStrike">
                <a:solidFill>
                  <a:srgbClr val="006633"/>
                </a:solidFill>
                <a:latin typeface="Garamond"/>
              </a:rPr>
              <a:t>3</a:t>
            </a:r>
            <a:r>
              <a:rPr b="1" lang="en-CA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CA" sz="3800" spc="-1" strike="noStrike">
                <a:solidFill>
                  <a:srgbClr val="006633"/>
                </a:solidFill>
                <a:latin typeface="Garamond"/>
              </a:rPr>
              <a:t>Component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2286000"/>
            <a:ext cx="2438280" cy="838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Law Enfor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1676520"/>
            <a:ext cx="29718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ehend / arrest cri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362320"/>
            <a:ext cx="29718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t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2971800"/>
            <a:ext cx="29718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event 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200400" y="1981080"/>
            <a:ext cx="1371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2666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27432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3733920"/>
            <a:ext cx="2438640" cy="1676160"/>
          </a:xfrm>
          <a:prstGeom prst="rect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The Cou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ersarial – law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ing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ndant compe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ecu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4114800"/>
            <a:ext cx="2971800" cy="838080"/>
          </a:xfrm>
          <a:prstGeom prst="rect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cess people char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police with a cr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4572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2971800"/>
            <a:ext cx="485640" cy="747720"/>
          </a:xfrm>
          <a:prstGeom prst="downArrow">
            <a:avLst>
              <a:gd name="adj1" fmla="val 50000"/>
              <a:gd name="adj2" fmla="val 3849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5410080"/>
            <a:ext cx="485640" cy="747720"/>
          </a:xfrm>
          <a:prstGeom prst="downArrow">
            <a:avLst>
              <a:gd name="adj1" fmla="val 50000"/>
              <a:gd name="adj2" fmla="val 3849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06633"/>
                </a:solidFill>
                <a:latin typeface="Garamond"/>
              </a:rPr>
              <a:t>Canada's Formal Justice System</a:t>
            </a:r>
            <a:r>
              <a:rPr b="0" lang="en-CA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r>
              <a:rPr b="0" lang="en-CA" sz="3800" spc="-1" strike="noStrike">
                <a:solidFill>
                  <a:srgbClr val="006633"/>
                </a:solidFill>
                <a:latin typeface="Garamond"/>
              </a:rPr>
              <a:t>3</a:t>
            </a:r>
            <a:r>
              <a:rPr b="1" lang="en-CA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CA" sz="3800" spc="-1" strike="noStrike">
                <a:solidFill>
                  <a:srgbClr val="006633"/>
                </a:solidFill>
                <a:latin typeface="Garamond"/>
              </a:rPr>
              <a:t>Components (</a:t>
            </a:r>
            <a:r>
              <a:rPr b="0" i="1" lang="en-CA" sz="3800" spc="-1" strike="noStrike">
                <a:solidFill>
                  <a:srgbClr val="006633"/>
                </a:solidFill>
                <a:latin typeface="Garamond"/>
              </a:rPr>
              <a:t>continued</a:t>
            </a:r>
            <a:r>
              <a:rPr b="0" lang="en-CA" sz="3800" spc="-1" strike="noStrike">
                <a:solidFill>
                  <a:srgbClr val="006633"/>
                </a:solidFill>
                <a:latin typeface="Garamond"/>
              </a:rPr>
              <a:t>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124080"/>
            <a:ext cx="2438280" cy="1219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1676520"/>
            <a:ext cx="2514600" cy="1218960"/>
          </a:xfrm>
          <a:prstGeom prst="rect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 Punish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nder, o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icted by the cou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3124080"/>
            <a:ext cx="2514600" cy="1828800"/>
          </a:xfrm>
          <a:prstGeom prst="rect">
            <a:avLst/>
          </a:prstGeom>
          <a:solidFill>
            <a:srgbClr val="bf9c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 Rehabili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nder chooses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-offend due to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cceptan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ety’s n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105520"/>
            <a:ext cx="2514600" cy="1066680"/>
          </a:xfrm>
          <a:prstGeom prst="rect">
            <a:avLst/>
          </a:prstGeom>
          <a:solidFill>
            <a:srgbClr val="c072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 To prot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by jailing viol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n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32680" y="201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1371600"/>
            <a:ext cx="2514600" cy="2286000"/>
          </a:xfrm>
          <a:prstGeom prst="rect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bution: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n ey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ociety’s des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divid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ocie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666880" y="25909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66880" y="3809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3809880"/>
            <a:ext cx="7621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362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125720" y="237888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006633"/>
                </a:solidFill>
                <a:latin typeface="Garamond"/>
              </a:rPr>
              <a:t>Rehabilitation</a:t>
            </a:r>
            <a:r>
              <a:rPr b="0" lang="en-CA" sz="4200" spc="-1" strike="noStrike">
                <a:solidFill>
                  <a:srgbClr val="006633"/>
                </a:solidFill>
                <a:latin typeface="Garamond"/>
              </a:rPr>
              <a:t> of the offen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686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most Canadians think it's necess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hanging the offender's values so they will not re-off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200" spc="-1" strike="noStrike">
                <a:solidFill>
                  <a:srgbClr val="000000"/>
                </a:solidFill>
                <a:latin typeface="Arial"/>
              </a:rPr>
              <a:t>Criticism:  The fact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ut most also think that prisoners “have it easy” and don't support government spending on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5080" indent="-3812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ess than half of the general prison population receives counselling or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5080" indent="-3812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ess than one third of sex offenders receive any kind of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5080" indent="-3812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anada's recidivism rate (the rate at which offenders re-offend) is currently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8:32:10Z</dcterms:created>
  <dc:creator>The Owner</dc:creator>
  <dc:description/>
  <dc:language>en-US</dc:language>
  <cp:lastModifiedBy>Customer</cp:lastModifiedBy>
  <dcterms:modified xsi:type="dcterms:W3CDTF">2010-11-03T18:47:07Z</dcterms:modified>
  <cp:revision>12</cp:revision>
  <dc:subject/>
  <dc:title>HSP 3M - Unit 3</dc:title>
</cp:coreProperties>
</file>